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emf" ContentType="image/x-emf"/>
  <Override PartName="/ppt/media/image4.jpeg" ContentType="image/jpeg"/>
  <Override PartName="/ppt/media/image9.pct" ContentType="image/x-pict"/>
  <Override PartName="/ppt/media/image5.emf" ContentType="image/x-emf"/>
  <Override PartName="/ppt/media/image6.jpeg" ContentType="image/jpeg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3DB-9B8D-47CE-A939-5609276A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1AB-C118-43A9-869D-ACD02B30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B6E-8969-4BC8-BA9C-7ABB2448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C96-087A-464A-B4FC-D5B503D3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B2D6-F277-44C3-A28C-8F51E394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4A58-C1A3-47EA-A0E0-3D0DCB71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286B-35FD-493A-AF11-4E439E18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5E50-159E-487A-ABFE-FF633BD9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5C9B-2921-4596-ADCA-7CAB4E8A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5650-52DE-48CB-A9E7-89C24E3D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B069-836A-488A-B249-4C3D1374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B1C-D76D-4D16-BC01-593DE71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29AE-6BDD-4785-88D9-5DF66F20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A32C-F3C3-4869-8AC6-15BD8D72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46FF-DCD9-45F4-9996-D857E3FE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3852-5F5B-4FBA-AAB8-6613CD44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C61E-F3E5-4F52-A0C8-522D8448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162-5C93-4A1D-9AFF-4FBC16ED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380-D1E3-4FC1-9E38-D1C588F8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324-BD94-4C43-A87F-0C6B2C27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ECE-6A1A-4108-B1B3-7C21B760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13B-2DE5-4F96-A5CA-49D28916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CC8-1777-463C-9F32-F2E08C4E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572-7A9B-444A-AD5D-9BCECBF7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983D-6853-4397-B58C-D69730C1D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F90D-B0D7-4797-B7C4-B7FC6558C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e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effects of the anti-drug laws in the 1960s and 197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ttany Smel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09680" y="2514600"/>
            <a:ext cx="464832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SvtyTwo ITC TT-Bold"/>
              </a:rPr>
              <a:t>What were the effects of the anti-drug laws created in the 1960s and 197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doni SvtyTwo ITC TT-Bold"/>
              </a:rPr>
              <a:t>Brittany Smelt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7086600" cy="3370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48240" y="335268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</a:rPr>
              <a:t>070621_haight_hlg_3p.hlarg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7339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The Drug Culture of the 1960s and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495680"/>
            <a:ext cx="4038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Riding the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the influence of music and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marijuana and psychedel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495680"/>
            <a:ext cx="38102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out of the cities and into the subu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Summer of Love (19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Haight and Ashb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581280" y="4419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6720" y="6643800"/>
            <a:ext cx="41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i.realone.com/assets/rn/img/5/5/2/7/15287255-15287258-slarg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Government Efforts to Control the Use and Trafficking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5720"/>
            <a:ext cx="91440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65: Drug Abuse Control Amendment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Government produces little acts or laws to handle drug abuse  in the 1960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release propaganda films in order to frighten society away from drug u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(Reefer Madn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outcome? BACKFIR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0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NORML is fou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Narcotics Treatment Administration is fou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Soldiers in Vietnam develop heroin addi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Nixon declares war on dru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The Office of Drug Abuse Law Enforcement is fou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Ford administration releases White Paper on Drug Abuse.(white paper meaning high population drug, but low risk exp. Mariju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Large cocaine seizure indicates significant growth of cocaine t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Carter's drug czar, Dr. Peter Bourne does not view marijuana, or even cocaine, as a serious public health th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1979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Cocaine trade becomes increasingly viol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01200" y="4876920"/>
            <a:ext cx="336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%3Fq%3Danti-drug%2Blaws%26gbv%3D2%26hl%3Den%26s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%3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The Effect of Government Anti-drug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152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</a:rPr>
              <a:t>The Effects of Government Anti-drug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905120"/>
            <a:ext cx="4038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mocked, com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too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glamorized by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Cuban and Panama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coc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540160" cy="4444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597360" y="59436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Carlos Leh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048120" y="44197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114800" y="388620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Norman's 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19320" y="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SvtyTwo ITC TT-Book"/>
              </a:rPr>
              <a:t>1980s: King Pens and Coc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Miami's Dadeland Mall (1979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Rise of the Medellin cartel (1981 - 1982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U.S. and Colombia extradition treaty ratifi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(1981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Downfall of Norman's Cay (1982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Largest cocaine seizure ever: $100 mill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sum (Medellin cartel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Nancy Reagan's "Just Say No" Mov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begin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Tranquilandia bust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3020760" cy="4394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784480" y="5334120"/>
            <a:ext cx="319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chathamjournal.com/weekly/moxiepix/a2958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90920" y="3049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</a:rPr>
              <a:t>Has it changed y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07:56Z</dcterms:created>
  <dc:creator>PA Department of Education</dc:creator>
  <dc:description/>
  <dc:language>en-US</dc:language>
  <cp:lastModifiedBy>PA Department of Education</cp:lastModifiedBy>
  <dcterms:modified xsi:type="dcterms:W3CDTF">2008-05-29T13:58:18Z</dcterms:modified>
  <cp:revision>6</cp:revision>
  <dc:subject/>
  <dc:title>What were the effects of the anti-drug laws in the 1960s and 1970s?</dc:title>
</cp:coreProperties>
</file>